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C808-C396-4AC3-9E61-F16A96EE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0400-EDBA-44BB-B0E1-AB42BD5E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B4F2-90A6-42FF-B60F-93EC772E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F105-EA64-485C-9416-56C1C5EF6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D8EF-1F60-4BB4-8255-A17E7F78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172F-6691-40CF-8F98-D62EEA84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AD95-6A93-45A5-970B-D3FE555E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42CF-E8F9-42EB-B5F6-D64CE0D8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F409-4A3D-411B-8EAD-D092DBA3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B6A9-7BB0-4D4B-802D-5C2D7E49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AFB9-B11A-4519-A9BE-CA1F4543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84E4-781B-4E82-9F75-F9E2C371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1578-29F8-4B6D-87DC-34F3D18235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130120"/>
            <a:ext cx="8305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Heavy"/>
              </a:rPr>
              <a:t>SAXS Data Pre-process V2.0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524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anklin Gothic Heavy"/>
              </a:rPr>
              <a:t>李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anklin Gothic Heavy"/>
              </a:rPr>
              <a:t>2011-04-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程序功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其他工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散射矢量分辨率及最小值要求建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积分角度范围计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根据光斑尺寸分辨率给出积分角度范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积分角度范围及积分步长建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积分步长，探测器分辨率，光斑大小，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光斑稳定性，光束的能量分辨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267080" y="838080"/>
            <a:ext cx="2362320" cy="2105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781680" y="838080"/>
            <a:ext cx="2229120" cy="2229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257800" y="3048120"/>
            <a:ext cx="2343240" cy="1504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181480" y="4619520"/>
            <a:ext cx="3429000" cy="22384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066680" y="1676520"/>
                <a:ext cx="1447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≤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990720" y="2133720"/>
                <a:ext cx="16761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h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6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Franklin Gothic Heavy"/>
              </a:rPr>
              <a:t>谢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程序信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athematica 8.0.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统配置要求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0GHz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以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G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以上内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运行的时候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出于安全原因可能会问你是不是启用动态内容，选择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nable Dynami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就可以了。或者这样设置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dit-&gt;Preferences-&gt;System-&gt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里面下拉菜单选择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lways Trus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这样以后就不再问你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程序功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二维散射图转为</a:t>
            </a:r>
            <a:r>
              <a:rPr b="0" i="1" lang="zh-CN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数据的自动批处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自动去噪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自动找中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自动圆弧积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自动生成带有统计误差的</a:t>
            </a:r>
            <a:r>
              <a:rPr b="0" i="1" lang="zh-CN" sz="18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i="1" lang="zh-CN" sz="18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数据的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实时监测新增图像文件并处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可生成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pdf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报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数据处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批量归一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批量扣背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数据合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其他工具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探测器背底强度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文件批量改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积分角度范围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积分角度范围及积分步长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散射矢量分辨率及最小值要求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程序功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、二维散射图转为</a:t>
            </a:r>
            <a:r>
              <a:rPr b="0" i="1" lang="zh-CN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zh-CN" sz="2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数据的自动批处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自动去噪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800600" y="2971800"/>
                <a:ext cx="220968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  <m:e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I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−</m:t>
                                            </m:r>
                                            <m:bar>
                                              <m:barPr>
                                                <m:pos m:val="top"/>
                                              </m:barPr>
                                              <m:e>
                                                <m:r>
                                                  <m:t xml:space="preserve">I</m:t>
                                                </m:r>
                                              </m:e>
                                            </m:ba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1924200" cy="1752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876920" y="2133720"/>
                <a:ext cx="981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I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95280" y="4572000"/>
            <a:ext cx="2819520" cy="2117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191120" y="4572000"/>
            <a:ext cx="281916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程序功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二维散射图转为</a:t>
            </a:r>
            <a:r>
              <a:rPr b="0" i="1" lang="zh-CN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zh-CN" sz="3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数据的自动批处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自动找中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寻找水平和垂直分布的峰值位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以该峰值位置为初始折点，拟合折线函数初步确定中心位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根据折线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eamSto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外径确定两个搜索环半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以该中心位置为中心，在较大范围内粗略搜索，使内环上强度分布最均匀的圆心位置，并同时保证中心强度低于环上强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当搜索确定在范围边缘，则移动搜索范围，继续搜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以前面确定位置为中心，在较小范围内精细搜索内环圆心位置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以内环圆心为中心，精确搜索外环中心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324480" y="43434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04920" y="4724280"/>
            <a:ext cx="2857320" cy="1914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429000" y="4724280"/>
            <a:ext cx="28576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程序功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二维散射图转为</a:t>
            </a:r>
            <a:r>
              <a:rPr b="0" i="1" lang="zh-CN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zh-CN" sz="3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数据的自动批处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自动圆弧积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输入积分参数（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范围、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步数、角度范围、积分精度）（程序设定阶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检测积分参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计算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及其泊松分布标准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步按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分，而非半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结果单位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ounts/mrad</a:t>
            </a:r>
            <a:r>
              <a:rPr b="0" lang="zh-CN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而非像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考虑了不同像素的空间角及距离影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扣除探测器背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给出了泊松分布的标准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5029200"/>
            <a:ext cx="285732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76720" y="5000760"/>
            <a:ext cx="2857320" cy="1857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400800" y="4602240"/>
            <a:ext cx="2533680" cy="2255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257800" y="2362320"/>
            <a:ext cx="3429000" cy="30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程序功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二维散射图转为</a:t>
            </a:r>
            <a:r>
              <a:rPr b="0" i="1" lang="zh-CN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zh-CN" sz="3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数据的自动批处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自动生成带有统计误差的</a:t>
            </a:r>
            <a:r>
              <a:rPr b="0" i="1" lang="zh-CN" sz="24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数据的文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实时监测新增图像文件并处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适用于实验时实时处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可生成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pdf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程序功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i="1" lang="zh-CN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zh-CN" sz="3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数据处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批量归一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批量扣背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数据链接与合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误差一并进行处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程序功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其他工具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探测器背底强度标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空曝光，读入数据，求平均强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文件批量改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文件名批量添加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.tif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，适用于某些软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600200" y="2743200"/>
          <a:ext cx="5715000" cy="289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743200"/>
                    <a:ext cx="5715000" cy="28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Ming</cp:lastModifiedBy>
  <dcterms:modified xsi:type="dcterms:W3CDTF">2011-04-25T06:29:10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